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drumroll.wav" ContentType="audio/x-wav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3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applause.wav" ContentType="audio/x-wav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CD4-E8DD-43E4-8F43-CD2653DA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D59-46EA-4BD1-9D5E-D61C68B0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EF24-672F-4C5A-9B1C-0D17280E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0B2-5BCD-4AEA-A87E-9286FE53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1F8E-9CBD-40C5-8270-E2EBB7F2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4E7C-618B-40E3-890E-3BD9CFC2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066C-6E47-4F47-A4E3-F51B1A1D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654F-D221-4AC4-B256-B4623D8C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D160-5FBB-4888-997B-C3356B17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B62D-1C01-45F4-8A35-923A7D05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AE26-7880-45C8-8862-115D3323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588-0844-4F2F-B5A5-CB706FC4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ACC7-E12C-4F48-B0FF-56E73C5C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89FC-B6C8-47F0-9B38-26D185B4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9D93-2642-4869-AD8F-95AADB67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5F05-EEE9-4BA9-BAE9-00EE7165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6797-C3C6-4203-B556-F1FC2BA9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0A2C8-92F7-4DAF-9C35-6E676A77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0C4C3-17F7-48A8-B662-019BBEE2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C56E9-9ED4-42D6-880E-765AB1E8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EECE6-3FAD-48C3-80AC-9D36516F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D33DA-EB0E-4A28-B150-D40E3E00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90D-383D-4A0F-B051-C0F73728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62AED-7F15-42BE-A5F6-7532314E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A3FD5-083E-4C06-BC38-88FBFAB2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C9615-8D44-4679-8D73-959C39C3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15DFD-8D6B-4C94-9E7F-AAB82ECB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8C0F9-73AE-4A9B-9DAE-045F45F9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91CF9-4CC5-4329-886C-1706C451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277EB-5763-4E31-BE55-81A27580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B4D46-7333-42B2-ACEA-1D833248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8325D-7A8D-4106-AB1B-81081414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2236B-E88F-48FD-8243-A88653DC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570-FE7D-484D-9BA3-A7A6B899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53A37-41A5-41B9-8034-3FFA2509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7B5F1-5F70-48F1-BFA7-C979E9E5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CB81A-DC0C-4E5D-A271-7A05F91D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DAD8B-EC23-4011-B078-A76C5A41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7520C-F7EE-41E3-8F66-62D22D03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7F755-1654-4C2D-976D-EF28049D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54BE5-32B1-49B3-AF9F-54406E28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4516B-9961-4896-AA25-67E89BBE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72BDE-10A6-4DF4-A301-B6F713E6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49D8-4AE3-445A-BC14-50D48368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FA2-927E-4A63-A474-C03FACD6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EBC-EC9B-46D5-A660-2AD8D119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8D4-CF97-40BC-BE50-5B61B11B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43F-44DA-47CC-B20C-DF41DAE8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9208-B7F1-4394-BC69-43CD10D8537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2A4C-9C50-4618-808E-F7239C56CC1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9D01-17D6-42BA-B189-DA3CA75F9C8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F557-7496-48D3-B549-74D71FB5C4C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:\Documents and Settings\Даша.8C16D62EEB58464\Рабочий стол\05[1].jpg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36732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639720" y="171360"/>
            <a:ext cx="7924680" cy="2438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071360" y="492876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9aaf2"/>
                </a:solidFill>
                <a:latin typeface="Constantia"/>
              </a:rPr>
              <a:t>Батраков.Д 7 «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  <p:sndAc>
      <p:stSnd>
        <p:snd r:embed="rId3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360" y="571320"/>
            <a:ext cx="4143240" cy="285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се морские живые организмы так или иначе связаны друг с другом. В морях и океанах обитает множество разнообразных животных от простейших до млекопитающих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Picture 2" descr="http://im3-tub.yandex.net/i?id=69855835-02"/>
          <p:cNvPicPr/>
          <p:nvPr/>
        </p:nvPicPr>
        <p:blipFill>
          <a:blip r:embed="rId2"/>
          <a:stretch/>
        </p:blipFill>
        <p:spPr>
          <a:xfrm>
            <a:off x="4714920" y="0"/>
            <a:ext cx="4429080" cy="4214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im0-tub.yandex.net/i?id=39275352-12"/>
          <p:cNvPicPr/>
          <p:nvPr/>
        </p:nvPicPr>
        <p:blipFill>
          <a:blip r:embed="rId3"/>
          <a:stretch/>
        </p:blipFill>
        <p:spPr>
          <a:xfrm>
            <a:off x="357120" y="3143160"/>
            <a:ext cx="4286160" cy="3714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0"/>
            <a:ext cx="6286320" cy="235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 морском дне куда не проникает солнечный свет, растения существовать не могут. Следовательно, там нет  животных, использующих растения в пищу.  Для глубоководных обитателей морского дна очень важным источником пищи служит тела мертвых животны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1" descr="H:\Documents and Settings\Даша.8C16D62EEB58464\Рабочий стол\02RWZLCAG1J1JPCA7OG2KDCA5YJIE7CACA39SGCAVLT7D4CAA5JBP6CAM408I8CA9V5641CAC6EPRPCAP7SYPCCAD22IW2CAGA7DPICA8ZTMAPCAUVX74NCA6KPSL8CAOD4T9NCAQ4WXNE.jpg"/>
          <p:cNvPicPr/>
          <p:nvPr/>
        </p:nvPicPr>
        <p:blipFill>
          <a:blip r:embed="rId2"/>
          <a:stretch/>
        </p:blipFill>
        <p:spPr>
          <a:xfrm>
            <a:off x="571680" y="1928880"/>
            <a:ext cx="757224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99680" y="214200"/>
            <a:ext cx="2786040" cy="32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Одни морские животные могут переносить других на своем теле – так на морских черепахах и акулах путешествуют  рыбы-</a:t>
            </a: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прилипалы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. У которых в процессе эволюции спиной плавник преобразовался в присоск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1" descr="H:\Documents and Settings\Даша.8C16D62EEB58464\Рабочий стол\photo[1].jpg"/>
          <p:cNvPicPr/>
          <p:nvPr/>
        </p:nvPicPr>
        <p:blipFill>
          <a:blip r:embed="rId2"/>
          <a:stretch/>
        </p:blipFill>
        <p:spPr>
          <a:xfrm>
            <a:off x="3286080" y="0"/>
            <a:ext cx="5857920" cy="2928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:\Documents and Settings\Даша.8C16D62EEB58464\Рабочий стол\0FN3F5CAXB8HBXCAOXPBQ0CADOFFLDCATCP7XQCA2511GHCA4RZOXBCADX1ILPCA7LEI4ZCAMTQBLKCA562PZ7CA1MAHP2CA3XAR8CCAA5349WCAOJHPIKCABOOK58CAJUX8BUCABO37DW.jpg"/>
          <p:cNvPicPr/>
          <p:nvPr/>
        </p:nvPicPr>
        <p:blipFill>
          <a:blip r:embed="rId3"/>
          <a:stretch/>
        </p:blipFill>
        <p:spPr>
          <a:xfrm>
            <a:off x="3714840" y="2857680"/>
            <a:ext cx="5429160" cy="3778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H:\Documents and Settings\Даша.8C16D62EEB58464\Рабочий стол\4GKR2WCAYFEGJDCAG7EUPZCAM7IKLKCA5WGMBJCALLTMKRCA4XWYS7CAR3WVN7CAZJQJQJCAC6KVGACALIXDB6CAAU7LOFCAAIYUR2CA60361WCA7J3GKLCAS0F7CECA4FJS57CA8DGWK5.jpg"/>
          <p:cNvPicPr/>
          <p:nvPr/>
        </p:nvPicPr>
        <p:blipFill>
          <a:blip r:embed="rId4"/>
          <a:stretch/>
        </p:blipFill>
        <p:spPr>
          <a:xfrm>
            <a:off x="0" y="3214800"/>
            <a:ext cx="464328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500880" y="213840"/>
            <a:ext cx="2643120" cy="400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которые животные используют другие организмы в качестве убежищ. Рыбы-клоуны прячутся среди жгучих щупалец актинии. А рыбки- кривохвостки спасаются от врагов среди иголок морских еж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Picture 2" descr="H:\Documents and Settings\Даша.8C16D62EEB58464\Рабочий стол\pom005[1].jpg"/>
          <p:cNvPicPr/>
          <p:nvPr/>
        </p:nvPicPr>
        <p:blipFill>
          <a:blip r:embed="rId2"/>
          <a:stretch/>
        </p:blipFill>
        <p:spPr>
          <a:xfrm>
            <a:off x="0" y="0"/>
            <a:ext cx="5000760" cy="3929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H:\Documents and Settings\Даша.8C16D62EEB58464\Рабочий стол\a9[1].jpg"/>
          <p:cNvPicPr/>
          <p:nvPr/>
        </p:nvPicPr>
        <p:blipFill>
          <a:blip r:embed="rId3"/>
          <a:stretch/>
        </p:blipFill>
        <p:spPr>
          <a:xfrm>
            <a:off x="0" y="3571920"/>
            <a:ext cx="5000760" cy="3286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:\Documents and Settings\Даша.8C16D62EEB58464\Рабочий стол\H06GQTCAZCO2XSCAY27GURCAJL21H3CAVG8I0YCAVU8Q5PCA5527D4CA999ZAACAXVAPO8CABEBI63CARA3VKSCANI2PXXCA5AEJEBCAJ5UQLZCAAX01J0CAW7CU29CAGKETL1CAGQ95FQ.jpg"/>
          <p:cNvPicPr/>
          <p:nvPr/>
        </p:nvPicPr>
        <p:blipFill>
          <a:blip r:embed="rId4"/>
          <a:stretch/>
        </p:blipFill>
        <p:spPr>
          <a:xfrm>
            <a:off x="5000760" y="3714840"/>
            <a:ext cx="41432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3274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9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Известны взаимовыгодные отношения между различными рыбами. Так, мелкие рыбки- чистильщики избавляют от кожных паразитов крупных хищных рыб. Они не  только собирают паразитов, но и  обрабатывают зубастый рот своих(пациентов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Picture 2" descr="H:\Documents and Settings\Даша.8C16D62EEB58464\Рабочий стол\0033[1].jpg"/>
          <p:cNvPicPr/>
          <p:nvPr/>
        </p:nvPicPr>
        <p:blipFill>
          <a:blip r:embed="rId2"/>
          <a:stretch/>
        </p:blipFill>
        <p:spPr>
          <a:xfrm>
            <a:off x="2857680" y="0"/>
            <a:ext cx="6286320" cy="4143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H:\Documents and Settings\Даша.8C16D62EEB58464\Рабочий стол\POQ7LSCADMVPSGCAGS0MVPCAJ2UJ8WCAR1C9VZCASNWA7ECAGN05M7CAK26S07CA5U60FGCA8EZ89ECAIWM0C4CAO8KD47CA8BLHLBCAZSS5OKCAFG5AXMCA15KAW1CAUJDCXXCA4EVSI2.jpg"/>
          <p:cNvPicPr/>
          <p:nvPr/>
        </p:nvPicPr>
        <p:blipFill>
          <a:blip r:embed="rId3"/>
          <a:stretch/>
        </p:blipFill>
        <p:spPr>
          <a:xfrm>
            <a:off x="2857680" y="3357720"/>
            <a:ext cx="628632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H:\Documents and Settings\Даша.8C16D62EEB58464\Рабочий стол\70015d5e73144e2667ee58c675f10dac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71680" y="0"/>
            <a:ext cx="782784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Уже известные нам рыбки-кривохвостки прячутся от врагов среди острых игл  морского еж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:\Documents and Settings\Даша.8C16D62EEB58464\Рабочий стол\post-32-1119025982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42560"/>
            <a:ext cx="2470320" cy="671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которые рыбы, кормясь, помогают кормится другим.  Как например рыбы-попугаи. Отламывают своими челюстями веточки коралла и глотают их. И к этому месту подплывают мелкие рыбки и достают  из обломков морских черве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  <p:sndAc>
      <p:stSnd>
        <p:snd r:embed="rId3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4:43:22Z</dcterms:created>
  <dc:creator>Даша</dc:creator>
  <dc:description/>
  <dc:language>en-US</dc:language>
  <cp:lastModifiedBy>Жена_Мастера</cp:lastModifiedBy>
  <dcterms:modified xsi:type="dcterms:W3CDTF">2011-11-13T10:00:17Z</dcterms:modified>
  <cp:revision>9</cp:revision>
  <dc:subject/>
  <dc:title>Взаимосвязь морских животных</dc:title>
</cp:coreProperties>
</file>